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A3A-758F-470F-A710-262FD7D7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D59-BC83-48E9-AE75-BEF9F811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45E-1F6B-4B2D-A3DF-D8173284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004-C594-4D41-BEFD-DE2CF881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E55C-8AC5-46E6-8700-9B08743B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E410-2C48-448C-ADF4-2C90703E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AF65-363D-4EA5-9C34-5B105BFB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3742-BF5B-49A9-9937-86D4C033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A6B4-3D10-40D1-878A-6CB8CF84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F248-D21E-430E-961D-79A32082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2568-C209-4CB3-9838-D872568E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F41-CFDC-4F73-9D86-FEB1D7CD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EFA4-5930-4910-AF2B-6A1A7B1E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E835-DD43-472B-A181-F6B2A855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DAE5-0A6B-4211-95C4-BB5517C3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A4E9-DCCA-4A29-A20A-D63E8098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8EBD-7BCA-4370-A998-1A6D5848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F0A-52FA-43B5-9583-7FE70AB6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F12-9AEF-47B9-9E83-E31FB10D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43D-EA23-4092-A255-DD52FB7B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71C-0722-4985-8215-6F4FDC0A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115-8971-432A-ABEF-E12FD45F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443-48E7-493B-B9F0-D5BF0BA5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47F-25F7-4AFA-A97D-31870DF6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cc4"/>
            </a:gs>
            <a:gs pos="100000">
              <a:srgbClr val="00295c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D6A90F-E743-40B2-AA83-24AED2BB58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cc4"/>
            </a:gs>
            <a:gs pos="100000">
              <a:srgbClr val="00295c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en-AU" sz="2400" spc="-1" strike="noStrike">
                <a:solidFill>
                  <a:srgbClr val="ffffff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4B12CC-E96D-4AEF-AB20-C37EBE57D1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8800" spc="-1" strike="noStrike">
                <a:solidFill>
                  <a:schemeClr val="accent3"/>
                </a:solidFill>
                <a:latin typeface="Calibri"/>
              </a:rPr>
              <a:t>ENERGY SYSTEMS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chemeClr val="accent3"/>
                </a:solidFill>
                <a:latin typeface="Calibri"/>
              </a:rPr>
              <a:t>ANAEROBIC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chemeClr val="accent3"/>
                </a:solidFill>
                <a:latin typeface="Calibri"/>
              </a:rPr>
              <a:t>GLYCOLYSI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47760" indent="-34776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naerobic energy pathway, or glycolysis,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reates ATP exclusively from carbohydra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eates this ATP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ithout the need of oxyg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Lactic aci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Hydrogen ions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are by-product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 this system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7760" indent="-34776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is it used? Anaerobic glycolysis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duces energy for short, high- intensity bur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f activity lasting no more than several minutes before the lactic acid build-up reaches a threshold known as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e lactate threshold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muscle pain, burning and fatigue make it difficult to maintain such intensit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ANAEROBIC GLYCOLY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2" name="Content Placeholder 3"/>
          <p:cNvGraphicFramePr/>
          <p:nvPr/>
        </p:nvGraphicFramePr>
        <p:xfrm>
          <a:off x="457200" y="1693440"/>
          <a:ext cx="8229240" cy="429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1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8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rimary Energy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tored glycogen, blood 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8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uration of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 secs – 2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78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portng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m swim, 400 min sprint, Fast break in basketball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8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bility to produce energy under conditions of inadequate 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78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imiting F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ctic acid build up, H+ ions build up (decrease of p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31640" y="274680"/>
            <a:ext cx="6454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Anaerobic Chemic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4" name="Content Placeholder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5" name="Diagram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6" name="Diagram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7" name="Diagram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8" name="Diagram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9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10" name="Down Arrow 9"/>
          <p:cNvSpPr/>
          <p:nvPr/>
        </p:nvSpPr>
        <p:spPr>
          <a:xfrm>
            <a:off x="943560" y="3519720"/>
            <a:ext cx="453240" cy="489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Right Arrow 10"/>
          <p:cNvSpPr/>
          <p:nvPr/>
        </p:nvSpPr>
        <p:spPr>
          <a:xfrm>
            <a:off x="3828240" y="3556080"/>
            <a:ext cx="525960" cy="4352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Right Arrow 11"/>
          <p:cNvSpPr/>
          <p:nvPr/>
        </p:nvSpPr>
        <p:spPr>
          <a:xfrm>
            <a:off x="6629400" y="3472560"/>
            <a:ext cx="525960" cy="4352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Bent Arrow 12"/>
          <p:cNvSpPr/>
          <p:nvPr/>
        </p:nvSpPr>
        <p:spPr>
          <a:xfrm flipV="1">
            <a:off x="1614600" y="3464640"/>
            <a:ext cx="616320" cy="52596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54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LACTATE THRESHOL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11400" indent="-31140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 threshold is the common term used when the level of lactate acid nad H+ within the bloodstream and working muscles is above which an individual cannot continue to physically exersise at a desired leve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1400" indent="-31140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ined athletes can increase their tolerance to LA accumulation and are able to continue effective performance or training with much higher lactate and H+ levels in their working muscles and circulatory syst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Put it to the Test…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test this system in class we use muscle endurance exerci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shups, Situps, and Lunges for 2 minut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chemeClr val="accent3"/>
                </a:solidFill>
                <a:latin typeface="Calibri"/>
              </a:rPr>
              <a:t>AEROBIC SYSTEM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334440" indent="-33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erobic system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uels most of the energy needed for long duration activit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ses oxyge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convert nutrients to ATP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system is a bit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lower than the anaerobi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elies on the circulatory system to transport oxyge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the working muscles before it creates ATP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is it used? Endurance events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, less intense activities, that last long periods of tim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system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reates 38 molecules of ATP from 1 molecule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 glusco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AEROBIC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Content Placeholder 3"/>
          <p:cNvGraphicFramePr/>
          <p:nvPr/>
        </p:nvGraphicFramePr>
        <p:xfrm>
          <a:off x="457200" y="1417680"/>
          <a:ext cx="8229240" cy="4702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8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8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rimary Energy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Glycogen, Carbohydrates, fats, prote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78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uration of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&gt; 2 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78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portng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Walking, Marathons, triathlons, cross country skiing, AFL midfielder, Basketball game, rowing 20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78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rge output of energy over a long period of time, removal of lact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78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imiting F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ctate and hydrogen ion accumulation, overheating, glucose and glycogen sto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04080" y="274680"/>
            <a:ext cx="673956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Aerobic System Chemic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3" name="Content Placeholder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24" name="Diagram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25" name="Diagram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26" name="Diagram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27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28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9" name="Down Arrow 10"/>
          <p:cNvSpPr/>
          <p:nvPr/>
        </p:nvSpPr>
        <p:spPr>
          <a:xfrm>
            <a:off x="1705320" y="2375640"/>
            <a:ext cx="453240" cy="489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Right Arrow 11"/>
          <p:cNvSpPr/>
          <p:nvPr/>
        </p:nvSpPr>
        <p:spPr>
          <a:xfrm>
            <a:off x="4426920" y="2536200"/>
            <a:ext cx="525960" cy="3765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Right Arrow 12"/>
          <p:cNvSpPr/>
          <p:nvPr/>
        </p:nvSpPr>
        <p:spPr>
          <a:xfrm>
            <a:off x="6785280" y="2546640"/>
            <a:ext cx="525960" cy="3661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Bent Arrow 13"/>
          <p:cNvSpPr/>
          <p:nvPr/>
        </p:nvSpPr>
        <p:spPr>
          <a:xfrm flipV="1">
            <a:off x="2158920" y="2223720"/>
            <a:ext cx="616320" cy="52596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54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ight Arrow 14"/>
          <p:cNvSpPr/>
          <p:nvPr/>
        </p:nvSpPr>
        <p:spPr>
          <a:xfrm>
            <a:off x="2939040" y="4535640"/>
            <a:ext cx="57924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3518640" y="4179600"/>
            <a:ext cx="116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P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0" y="3701880"/>
            <a:ext cx="1088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at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( and O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te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emergency ATP sou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Arrow 17"/>
          <p:cNvSpPr/>
          <p:nvPr/>
        </p:nvSpPr>
        <p:spPr>
          <a:xfrm>
            <a:off x="874800" y="4355280"/>
            <a:ext cx="42696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Right Arrow 18"/>
          <p:cNvSpPr/>
          <p:nvPr/>
        </p:nvSpPr>
        <p:spPr>
          <a:xfrm>
            <a:off x="3091680" y="6195960"/>
            <a:ext cx="579240" cy="360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671280" y="5734440"/>
            <a:ext cx="1127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P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Put it to the test….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test this system we use cardiovascular endur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form the 12 minute walk run and record the distance covered in 12 minut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ENERGY SYSTEM FOR SELECTED SPOR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984240" y="1417680"/>
            <a:ext cx="7175160" cy="50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600" spc="-1" strike="noStrike">
                <a:solidFill>
                  <a:schemeClr val="accent3"/>
                </a:solidFill>
                <a:latin typeface="Calibri"/>
              </a:rPr>
              <a:t>FOOD TO FUEL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gy in the human body come from the breakdown of nutrients lik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arbohydrates, protein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fats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od = Energy (ATP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d result of this breakdown is the production energy in the form of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denosine triphosphate (ATP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chemeClr val="accent3"/>
                </a:solidFill>
                <a:latin typeface="Calibri"/>
              </a:rPr>
              <a:t>ENERGY PATHWAY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P provides energy necessary for body func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cause the body can not easily store ATP it is necessary to continually create ATP during exerci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chemeClr val="accent3"/>
                </a:solidFill>
                <a:latin typeface="Calibri"/>
              </a:rPr>
              <a:t>ENERGY PATHWAY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general, the two major ways the body converts nutrients to energy a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erobi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etabolism (with oxygen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naerobi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etabolism (without oxyge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7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is a total of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3 Energy system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at interplay to supply the fuel needed for exercise, with the intensity and duration of the exercise determining which method gets used wh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chemeClr val="accent3"/>
                </a:solidFill>
                <a:latin typeface="Calibri"/>
              </a:rPr>
              <a:t>ENERGY</a:t>
            </a: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 </a:t>
            </a:r>
            <a:r>
              <a:rPr b="1" lang="en-US" sz="6000" spc="-1" strike="noStrike">
                <a:solidFill>
                  <a:schemeClr val="accent3"/>
                </a:solidFill>
                <a:latin typeface="Calibri"/>
              </a:rPr>
              <a:t>SYSTEM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3 energy systems ar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) ATP-PC System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Anaerobic without oxygen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)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naerobic Glycolysi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Anaerobic without oxygen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)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erobic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Aerobic with oxyge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chemeClr val="accent3"/>
                </a:solidFill>
                <a:latin typeface="Calibri"/>
              </a:rPr>
              <a:t>ATP-CP SYSTEM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240" cy="47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98800" indent="-29880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TP-CP energy pathway (sometimes called the phosphate system)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ses ATP CP stores directl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pathwa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oesn't require any oxyge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create ATP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800" indent="-29880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is it used? supplies about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10 seconds worth of energy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is used for short bursts of exercise such as a 100 meter spri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800" indent="-29880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first uses up any ATP stored in the muscle (about 2-3 seconds worth) and then it uses creatine phosphate (CP) to resynthesize ATP until the CP runs out (another 6-8 seconds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8800" indent="-298800" algn="just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fter the ATP and CP are used the body will move on to either aerobic or anaerobic metabolism (glycolysis) to continue to create ATP to fuel exerci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chemeClr val="accent3"/>
                </a:solidFill>
                <a:latin typeface="Calibri"/>
              </a:rPr>
              <a:t>ATP-PC System Chemical Proces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50960" y="2050200"/>
            <a:ext cx="6255360" cy="407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240" indent="-318240" algn="ctr">
              <a:lnSpc>
                <a:spcPct val="100000"/>
              </a:lnSpc>
              <a:spcBef>
                <a:spcPts val="913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1" lang="en-AU" sz="4570" spc="-1" strike="noStrike">
                <a:solidFill>
                  <a:srgbClr val="ffffff"/>
                </a:solidFill>
                <a:latin typeface="Arial"/>
                <a:ea typeface="Arial"/>
              </a:rPr>
              <a:t>ATP↔ADP + P + energy</a:t>
            </a:r>
            <a:endParaRPr b="0" lang="en-US" sz="4570" spc="-1" strike="noStrike">
              <a:solidFill>
                <a:srgbClr val="ffffff"/>
              </a:solidFill>
              <a:latin typeface="Calibri"/>
            </a:endParaRPr>
          </a:p>
          <a:p>
            <a:pPr marL="3182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Arial"/>
              </a:rPr>
              <a:t>When ATP is broken down (i.e. loses one phosphate group) a new molecule is formed known as </a:t>
            </a:r>
            <a:r>
              <a:rPr b="1" i="1" lang="en-AU" sz="3200" spc="-1" strike="noStrike">
                <a:solidFill>
                  <a:srgbClr val="ffffff"/>
                </a:solidFill>
                <a:latin typeface="Arial"/>
                <a:ea typeface="Arial"/>
              </a:rPr>
              <a:t>Adenosine Diphosphate (ADP)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Arial"/>
              </a:rPr>
              <a:t>The energy produced activates specific sites along the muscle fibers causing them to shor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ATP-CP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6" name="Content Placeholder 3"/>
          <p:cNvGraphicFramePr/>
          <p:nvPr/>
        </p:nvGraphicFramePr>
        <p:xfrm>
          <a:off x="457200" y="1562040"/>
          <a:ext cx="8229240" cy="4481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2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88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rimary Energy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tored ATP, C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76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uration of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Up to 10 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76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porting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Weight lifting, high jump, long jump, 100m run, 25m sw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76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roduce very large amount of energy in a short amount of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76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imiting Fa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nitial concentration of high energy phosphates (ATP, P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Calibri"/>
              </a:rPr>
              <a:t>Put it to the test…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test the ATP-CP system we use muscular pow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cep Curl 1RM (repetition maximum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  <Words>976</Words>
  <Paragraphs>130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9:17:33Z</dcterms:created>
  <dc:creator>Amy Ryan</dc:creator>
  <dc:description/>
  <dc:language>en-US</dc:language>
  <cp:lastModifiedBy>Amy Ryan</cp:lastModifiedBy>
  <dcterms:modified xsi:type="dcterms:W3CDTF">2010-10-14T09:32:18Z</dcterms:modified>
  <cp:revision>35</cp:revision>
  <dc:subject/>
  <dc:title>ENERGY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9</vt:r8>
  </property>
</Properties>
</file>